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2BB-F2AA-4283-8728-BE51CEC0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5A5-D865-47A2-9B0E-E0D096D9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D7B7-5CE8-41BB-ADC0-1E9D40D8D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4B6-2C2B-4F23-A760-8A754AA8A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DDBD-084E-4B40-9303-8DF4C278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0BBA-E449-44EE-AE7D-4748D1FE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C086-264C-4B28-A8BF-74CEBD836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BFD4-AAF7-4C5D-949F-D2EB833AF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219CC-902F-4B7B-B3D4-1332D9EA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4DE8-541D-4F20-8683-25887E11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1D726-EF40-420F-8C2A-8E32B263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43E-124F-45FB-83C0-9517AFE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65E3-043A-42DF-B36C-34B1CE9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06D5-A1B3-4557-9563-603C49C7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1573-3A48-4C80-8507-DB602D9A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C946-F7E6-483C-B3D9-75895F7A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8ED9-70ED-4E84-9885-32216C41C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2E4124-8600-47DE-BFC2-4292E8B9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4F18F-F484-4032-A83A-55B77ACB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CCA44-1548-44CE-8520-C976F3BA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6E49D-C35F-45A6-BED3-5C28031E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2D1F46-5E7A-4887-A8E7-36725592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F39-36A1-42A6-9415-83E554D0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BBB850-4179-4F67-8E61-A2840F5F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7438B-F7FD-4CFA-B7D4-25BA6C77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10D5C-D842-4DF1-9B57-48C5B1DB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BD6D3E-E915-4573-A09A-A2FFD4D0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AAE77-7C55-4CA5-A19C-B7578D81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2BC55-A993-46EB-A438-858EA109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66AA1-7914-4C2A-ACA1-777893CD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1D50-7C66-4A5B-BBE0-01FE59C0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C75DC-27AF-4D09-A84D-C946C010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9187E-3694-49B3-8AB9-28D75F83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BEF4-5EF1-4BC3-8114-86D7FF2F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91BD-5BC3-4CA5-9BEC-9F57A6F6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D58F-98B1-4469-BCF5-C430C4804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584EE-3F6F-4D9D-9C85-4A2FEAE8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C5055-350F-4302-8A44-830371A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77C1-4A11-4F38-94A2-9243A213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A02F-7307-458C-BDA1-9EA80945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AC1A5-5D79-4429-9573-F9DDD61F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EA52D-24DF-4ED2-A2BA-86E23B3CC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83BE1-2A04-4F36-A756-6210D3D1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4C5F-F3BE-4C9B-B997-5FF4AC64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640-0D66-4376-992A-19DCF796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1BF-40AA-4123-92D8-60147311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39FC-11FD-4372-969A-CB5A5658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DEA-BE56-453D-BAC3-E2933A04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41BA-2AAA-4098-94BD-115C8003819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ABE-B679-4175-89E2-08AA0657E13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00D8-8657-4F70-8793-F5829A1689C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BD3C-1298-4D2E-9262-733FA71BEB2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BD Ideas for Proposal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TK Hemmick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70246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me Photos…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61760" y="4240080"/>
            <a:ext cx="436716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BD readout Pla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Rotating Tabl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est Frame &amp; Sour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2" descr=""/>
          <p:cNvPicPr/>
          <p:nvPr/>
        </p:nvPicPr>
        <p:blipFill>
          <a:blip r:embed="rId1"/>
          <a:srcRect l="0" t="23991" r="0" b="5271"/>
          <a:stretch/>
        </p:blipFill>
        <p:spPr>
          <a:xfrm>
            <a:off x="5749920" y="2735280"/>
            <a:ext cx="3218040" cy="30481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3" descr=""/>
          <p:cNvPicPr/>
          <p:nvPr/>
        </p:nvPicPr>
        <p:blipFill>
          <a:blip r:embed="rId2"/>
          <a:stretch/>
        </p:blipFill>
        <p:spPr>
          <a:xfrm>
            <a:off x="5410080" y="42840"/>
            <a:ext cx="3557880" cy="26575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3"/>
          <a:srcRect l="-383" t="23007" r="387" b="28374"/>
          <a:stretch/>
        </p:blipFill>
        <p:spPr>
          <a:xfrm>
            <a:off x="838080" y="1371600"/>
            <a:ext cx="350532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440" y="304560"/>
            <a:ext cx="7024680" cy="72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oda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96800" y="4876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BD on the table looking at </a:t>
            </a:r>
            <a:r>
              <a:rPr b="0" lang="en-US" sz="2400" spc="-1" strike="noStrike" baseline="30000">
                <a:solidFill>
                  <a:srgbClr val="3e3d2d"/>
                </a:solidFill>
                <a:latin typeface="Century Gothic"/>
              </a:rPr>
              <a:t>5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4 Trackers roughly aligne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 PbGl as the famous “TCal” (named for Shape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rcRect l="0" t="26378" r="0" b="40444"/>
          <a:stretch/>
        </p:blipFill>
        <p:spPr>
          <a:xfrm>
            <a:off x="533520" y="1143000"/>
            <a:ext cx="7848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02468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ssues To Dat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914040" y="16761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usion is very low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ard to hit multiple readou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nything to be done (He???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IRROR from industry is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ATE (nearly 3 weeks)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Expensive:  $5500 @ 7” radius.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ossible BIG R&amp;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90360" y="18284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rge mirror wor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pectra Thin Films Compan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ig Ma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ice unknown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9:27:14Z</dcterms:created>
  <dc:creator>Thomas K Hemmick</dc:creator>
  <dc:description/>
  <dc:language>en-US</dc:language>
  <cp:lastModifiedBy>Thomas K Hemmick</cp:lastModifiedBy>
  <dcterms:modified xsi:type="dcterms:W3CDTF">2012-03-26T20:04:48Z</dcterms:modified>
  <cp:revision>3</cp:revision>
  <dc:subject/>
  <dc:title>HBD Ideas for Proposal</dc:title>
</cp:coreProperties>
</file>